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53853"/>
        <c:axId val="35979369"/>
      </c:barChart>
      <c:catAx>
        <c:axId val="77753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79369"/>
        <c:crosses val="autoZero"/>
        <c:auto val="1"/>
        <c:lblAlgn val="ctr"/>
        <c:lblOffset val="100"/>
        <c:noMultiLvlLbl val="0"/>
      </c:catAx>
      <c:valAx>
        <c:axId val="35979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53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267-3558-4409-B969-E3083FE0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1DA-FEA4-4AA4-ACB8-F8FD1DD1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BAF-4949-43A5-8E96-B3C5633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D8F-6984-4C97-98CE-F6C52A5C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760-1A70-4462-AB2A-0172E5F0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F3E-D6DC-48DE-BC67-98657646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FCF-4802-4BE3-AB4B-689ADE53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A2E-BE1F-4E47-9E18-3BDDC761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6FD-10B9-4F5A-A1F0-7BBA84EB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C1A-D31F-4B62-B504-B7FFD6FA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AD6-5268-422A-A982-1132E5E1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130-E079-403A-BD42-EE0B8BD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490D3-3AEF-4541-9DDB-838806211C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