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8005"/>
        <c:axId val="97090589"/>
      </c:barChart>
      <c:catAx>
        <c:axId val="5958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90589"/>
        <c:crosses val="autoZero"/>
        <c:auto val="1"/>
        <c:lblAlgn val="ctr"/>
        <c:lblOffset val="100"/>
        <c:noMultiLvlLbl val="0"/>
      </c:catAx>
      <c:valAx>
        <c:axId val="97090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8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F0E-0BCE-4894-AC44-6B267B8C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273-79E5-4E8F-A422-653173A5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AD43-DE76-4D8D-92A1-0E5CC2F6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C69F-19C1-4D9B-A68B-29CA0118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595-1888-4E93-A760-14861873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821-2A9C-466D-8792-12E923EF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4AB-05AC-4184-A86C-944786E0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0AA4-06E9-475F-9589-77BE36BF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771E-DE93-4AA9-873D-C3D523D2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4810-D9ED-410E-B419-8854B2D5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857-F80C-46A0-B895-969BABB9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935-4BC1-454E-94CA-47DB5A2A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8B381-1EF8-447B-A69B-D855A5A500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