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68178"/>
        <c:axId val="72413447"/>
      </c:barChart>
      <c:catAx>
        <c:axId val="36568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13447"/>
        <c:crosses val="autoZero"/>
        <c:auto val="1"/>
        <c:lblAlgn val="ctr"/>
        <c:lblOffset val="100"/>
        <c:noMultiLvlLbl val="0"/>
      </c:catAx>
      <c:valAx>
        <c:axId val="72413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8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37E-71B9-45C1-99CA-F8154690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FD9-6331-488E-AAB6-3714FCE8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B4A-9C7F-471F-A09D-AB807BD0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E0A-A478-4E1F-97CF-62619528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664-DA7A-4F0F-A593-AE81C391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D19-E4B0-4AC6-83BD-C6D9FFE8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EBB-DD78-46FA-ADAE-65AAB26E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9DA-A67A-41B6-8D72-50691CC6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BDC-91E1-43AA-9BF7-FCEDBF06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126-0E9D-4C00-8A46-398F4A42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CE9-6E41-4E83-8713-CC68F6D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AAF-6498-44DE-BB3A-5D123084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4C1C8-751E-40BF-84C5-01E1E4C938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