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567329"/>
        <c:axId val="1515616"/>
      </c:barChart>
      <c:catAx>
        <c:axId val="155673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15616"/>
        <c:crosses val="autoZero"/>
        <c:auto val="1"/>
        <c:lblAlgn val="ctr"/>
        <c:lblOffset val="100"/>
        <c:noMultiLvlLbl val="0"/>
      </c:catAx>
      <c:valAx>
        <c:axId val="15156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5673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A771-51BB-413C-9B87-8AE488C8F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4EC2-AFE0-43CB-BA3A-7500AC532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24ED-713A-44D9-A22A-8EBD8B129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B443-3B56-42F1-9084-7729A80E7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535F-967E-49B8-90D5-8F088AFAE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124F-5673-493D-9225-04F196C7A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CC5B-5345-482D-8251-A5136CAE8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4346-AF0C-48B5-B0B1-47ADFE85D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07BE-4E61-4E92-90E6-032163952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E331-2E49-4039-B5CB-9EE428D1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1CD9-67B9-4916-A510-441ED3B6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66E7-CB68-4BC0-AF82-69DD7C0F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095666-1DB4-4CA6-A96A-B4AE0C764A9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