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7637817"/>
        <c:axId val="41160650"/>
      </c:barChart>
      <c:catAx>
        <c:axId val="9763781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160650"/>
        <c:crosses val="autoZero"/>
        <c:auto val="1"/>
        <c:lblAlgn val="ctr"/>
        <c:lblOffset val="100"/>
        <c:noMultiLvlLbl val="0"/>
      </c:catAx>
      <c:valAx>
        <c:axId val="4116065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63781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70B7B-2540-4102-B2E1-EF3BABD22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788F9-35AA-4B24-BCAA-465414AC5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DB56F-3AC2-45FA-AEED-048DC1B9D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19890-59F6-4485-B660-215A2DDB3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07D64-7E7A-41AC-97F8-C4C859F10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19ADE-A4C2-4FDA-B633-1755A0D9A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57DB7-E80E-4585-B8AE-483BDFCCA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240FD-70F6-4500-83E7-42DF89BA4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47123-248B-4615-811B-30BB21E6C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DC5D4-C733-4B4C-84D7-2E9174D15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4813A-B2F2-44A8-95D7-7BEBDAF04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C6866-4909-4DEA-88AC-915C3B014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B0EEC1-D5E9-4DFC-917D-FF1B25EE197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