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29563"/>
        <c:axId val="27883213"/>
      </c:barChart>
      <c:catAx>
        <c:axId val="11629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83213"/>
        <c:crosses val="autoZero"/>
        <c:auto val="1"/>
        <c:lblAlgn val="ctr"/>
        <c:lblOffset val="100"/>
        <c:noMultiLvlLbl val="0"/>
      </c:catAx>
      <c:valAx>
        <c:axId val="27883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29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479-60F7-482E-A8B4-A7EF569D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D69-6DB7-4DDD-AD92-62E964B3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E80-0BD6-4279-AA03-27C51DA8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FC7-28A3-4D95-9CA8-13A79C20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C99-D6E6-40AE-88A6-4C923E44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BA2-CD7D-4C73-98BF-A20A4D16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633-1543-4BDD-9748-E8BC40A7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130-14D3-450B-8CFA-DC2EDD38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E2E-0D16-4C91-824C-C6DCF792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E25-CD59-463A-871B-5159B608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B21-9643-4220-8522-1E6AFBBA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8A1-90BD-40EB-8587-B88EF54F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2773E-9F40-4DB2-9BCA-DD087CDF52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