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64674"/>
        <c:axId val="8435669"/>
      </c:barChart>
      <c:catAx>
        <c:axId val="11646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5669"/>
        <c:crosses val="autoZero"/>
        <c:auto val="1"/>
        <c:lblAlgn val="ctr"/>
        <c:lblOffset val="100"/>
        <c:noMultiLvlLbl val="0"/>
      </c:catAx>
      <c:valAx>
        <c:axId val="84356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46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A9C-9DC2-49BF-A716-1F9BD60B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F680-29C1-4BAF-8C56-5046E7B9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2C12-AC6B-4F1A-B61C-1B444AC1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6E5-44ED-4BFD-9FD4-2E599FCC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AE38-9AB7-4FAF-A1E5-6E1607FB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9F70-71AF-486A-9623-135C468A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3123-C2EC-4847-A027-3D7E684D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659-B930-4F81-87BF-DFB4566B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6C12-F986-4FE6-9370-2CA7622B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780-7C7F-4C72-A4FA-29141976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0F8-1C91-49B7-B19F-2B95D926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9FE1-5224-4499-AC7B-658987D5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928AF-2A64-4505-BA8A-5B1F7989AC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