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587038"/>
        <c:axId val="83674804"/>
      </c:barChart>
      <c:catAx>
        <c:axId val="425870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674804"/>
        <c:crosses val="autoZero"/>
        <c:auto val="1"/>
        <c:lblAlgn val="ctr"/>
        <c:lblOffset val="100"/>
        <c:noMultiLvlLbl val="0"/>
      </c:catAx>
      <c:valAx>
        <c:axId val="836748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5870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0838-4F94-444B-AC81-E7097C180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FCBD-BDF8-4425-9B5A-E34EC7673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033E-3D1E-4BFD-910B-59EE486E2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F977-7D21-4A41-BFA4-74B3F39BA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7FDC-D303-48BA-BF4D-CC8DDEB90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67FB-03FB-4450-B370-E1463E835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DA83-73D7-49A4-B8E4-490409320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C04A-374F-4EFB-A859-675191220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D567-82E6-470C-BAB8-EB8518161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E984-CB22-45C5-90C9-CD9F0BF1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2631-AE9F-45A0-8FF7-8E6BCAB7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815F-ABE4-4414-965E-20AF1C80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084A11-194F-4E2C-88B7-194F5CA567D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