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424089"/>
        <c:axId val="95280342"/>
      </c:barChart>
      <c:catAx>
        <c:axId val="834240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280342"/>
        <c:crosses val="autoZero"/>
        <c:auto val="1"/>
        <c:lblAlgn val="ctr"/>
        <c:lblOffset val="100"/>
        <c:noMultiLvlLbl val="0"/>
      </c:catAx>
      <c:valAx>
        <c:axId val="952803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4240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FDCF-81B1-4B40-9057-D434BD1FE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DDFB-73CD-4799-908F-7F6FD3BA1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DBC3-18B2-4912-BB68-4F0862AA2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66AF-4520-40AC-8C04-3103BCF87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51BE-611A-418D-BFF6-4AC99F852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E2EB-0128-42A5-9203-F13B7C832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3956-163D-4133-AF03-0B6FED840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09E2-97C0-4EB5-952A-FE5CBE1FB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6242-A2DD-49CE-9A48-1A977A719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E201-A131-4057-A1FA-3A6070372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88D0-932C-480D-BDA4-789E4FF9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A3C9-135C-4487-BB15-A595B88F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6F8704-135C-40AB-ACC4-A824D07853F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