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70664"/>
        <c:axId val="14363034"/>
      </c:barChart>
      <c:catAx>
        <c:axId val="633706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63034"/>
        <c:crosses val="autoZero"/>
        <c:auto val="1"/>
        <c:lblAlgn val="ctr"/>
        <c:lblOffset val="100"/>
        <c:noMultiLvlLbl val="0"/>
      </c:catAx>
      <c:valAx>
        <c:axId val="143630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706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80F0-ED97-4842-8BCE-B3A3F94B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06D-608B-4F06-B6EA-615BD955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7B70-AD28-4FE9-B50B-C05037B7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B11E-A96D-46D3-9CEF-B8321A35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B5B-ED77-4A44-AC85-4624B475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A1E2-16FC-46E7-B616-D68B1CEA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793-3B97-4C24-A00E-BB0B3360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605B-F143-46CC-8565-B6850317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F8E8-7F37-45A0-9C95-264E0619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D818-BEB1-4E86-A083-ADDD5B71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D4D-989D-4C67-B5FF-803C0606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E710-62A4-4E3E-9EB3-77AE244C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FD9B9-281C-45A5-930D-F1EB1B69D0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